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emf" ContentType="image/x-emf"/>
  <Override PartName="/ppt/media/image4.jpeg" ContentType="image/jpeg"/>
  <Override PartName="/ppt/media/image9.pct" ContentType="image/x-pict"/>
  <Override PartName="/ppt/media/image5.emf" ContentType="image/x-emf"/>
  <Override PartName="/ppt/media/image6.jpeg" ContentType="image/jpeg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CEB-EFFB-47FB-98D0-9E912EB1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389-D273-4936-8D75-CF75E2F6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062-CA15-4A9B-9E68-5FBCADA4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557-5D34-46BC-A90B-06BB8A75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2946-09E0-4A90-9C3A-078EDF26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66EA-D68F-4966-AF32-052E30C8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B8AB-2C3D-4CA2-8549-902FC676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C90F-F267-4215-BBCF-F15F7127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021D-ADB2-4ECC-9517-B039CD69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5F28-878D-4FCA-8F24-E2B7B21B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4028-B46D-46B8-93C0-98CDFBE0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690-BEC2-4FD2-B26D-CA530BDA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3232-7040-49A8-92BF-AC0509D0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BDC7-BEEB-4CF2-9D4D-40D2CB59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9C44-C04D-4578-882A-C3151BC6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4E70-1266-4E7D-855F-59C1A2A5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B676-4D07-4ECB-8B5B-6D833166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F5C-77D8-4889-8A73-301EE78E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D56-441B-42A0-98FB-9456D928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330-6930-4FC0-88F4-C2EA22E2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8AC-FB5B-4893-85FA-843B81FC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A97-4ADF-44BD-8E1A-85113EB7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BD4-A035-4E7C-A914-33FDFC28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8E2-196D-481C-AE18-3391112C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1A70-CE67-4215-BD7F-1FB5A3003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58B4-65C4-4147-A3B3-35251E045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e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e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effects of the anti-drug laws in the 1960s and 197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ttany Smel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09680" y="2514600"/>
            <a:ext cx="464832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SvtyTwo ITC TT-Bold"/>
              </a:rPr>
              <a:t>What were the effects of the anti-drug laws created in the 1960s and 197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doni SvtyTwo ITC TT-Bold"/>
              </a:rPr>
              <a:t>Brittany Smelt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7086600" cy="337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48240" y="335268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</a:rPr>
              <a:t>070621_haight_hlg_3p.hlarg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7339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The Drug Culture of the 1960s and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95680"/>
            <a:ext cx="4038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Riding the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the influence of music and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marijuana and psychedel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495680"/>
            <a:ext cx="38102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out of the cities and into the subu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Summer of Love (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Haight and Ashb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581280" y="4419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6720" y="6643800"/>
            <a:ext cx="41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i.realone.com/assets/rn/img/5/5/2/7/15287255-15287258-slarg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Government Efforts to Control the Use and Trafficking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5720"/>
            <a:ext cx="91440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65: Drug Abuse Control Amendment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Government produces little acts or laws to handle drug abuse  in the 1960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release propaganda films in order to frighten society away from drug u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(Reefer Madn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outcome? BACKFIR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0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NORML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Narcotics Treatment Administration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Soldiers in Vietnam develop heroin addi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Nixon declares war on dru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The Office of Drug Abuse Law Enforcement is fou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doni SvtyTwo ITC TT-Book"/>
              </a:rPr>
              <a:t>197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Ford administration releases White Paper on Drug Abuse.(white paper meaning high population drug, but low risk exp. Mariju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Large cocaine seizure indicates significant growth of cocaine t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Carter's drug czar, Dr. Peter Bourne does not view marijuana, or even cocaine, as a serious public health th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197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SvtyTwo ITC TT-Book"/>
              </a:rPr>
              <a:t>- Cocaine trade becomes increasingly viol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01200" y="4876920"/>
            <a:ext cx="336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%3Fq%3Danti-drug%2Blaws%26gbv%3D2%26hl%3Den%26s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%3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The Effect of Government Anti-drug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52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</a:rPr>
              <a:t>The Effects of Government Anti-drug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905120"/>
            <a:ext cx="4038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mocked, com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too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glamorized by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Cuban and Panama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SvtyTwo ITC TT-Book"/>
              </a:rPr>
              <a:t>coc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540160" cy="4444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597360" y="59436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Carlos Leh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048120" y="44197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114800" y="388620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Norman's 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19320" y="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SvtyTwo ITC TT-Book"/>
              </a:rPr>
              <a:t>1980s: King Pens and Coc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doni SvtyTwo ITC TT-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Miami's Dadeland Mall (1979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Rise of the Medellin cartel (1981 - 1982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U.S. and Colombia extradition treaty ratifi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(1981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Downfall of Norman's Cay (1982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Largest cocaine seizure ever: $100 mill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sum (Medellin cartel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Nancy Reagan's "Just Say No" Mov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 begin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doni SvtyTwo ITC TT-Book"/>
              </a:rPr>
              <a:t>- Tranquilandia bust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3020760" cy="439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84480" y="5334120"/>
            <a:ext cx="319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chathamjournal.com/weekly/moxiepix/a2958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90920" y="3049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</a:rPr>
              <a:t>Has it changed y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07:56Z</dcterms:created>
  <dc:creator>PA Department of Education</dc:creator>
  <dc:description/>
  <dc:language>en-US</dc:language>
  <cp:lastModifiedBy>PA Department of Education</cp:lastModifiedBy>
  <dcterms:modified xsi:type="dcterms:W3CDTF">2008-05-29T13:57:20Z</dcterms:modified>
  <cp:revision>5</cp:revision>
  <dc:subject/>
  <dc:title>What were the effects of the anti-drug laws in the 1960s and 1970s?</dc:title>
</cp:coreProperties>
</file>